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047-0803-4E4F-B8C7-703B1383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49B-1C3E-4C4A-B286-25737D39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780-4DEB-41E9-8879-89200068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F4B-CE2F-44A9-A357-C678250E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266E-5DCC-49A0-B0D0-279FF41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34DA-8ADF-482B-9F75-9F455A4F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4E04-A302-492D-8669-629E014D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4215-B074-4C82-B625-4D6E2628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F1A6-458C-4B2B-9F6D-C27DD0AB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92C0-79C7-4C35-9CD2-6394069E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A219-3E6F-46EC-98D1-786C9E29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0C7-1A19-487B-AFA6-9AB6F831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C73C-5538-4A82-8DB2-FAA44314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431D-0E63-472B-85D1-D9F16D3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2BAD-99A1-4EA1-9ECA-698903FD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EE35-DBDD-486C-8035-8F852196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F06-81A4-485B-A6E0-51CD219E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656-88F8-49D0-B635-B3E97F5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640-6FA8-49AD-99AD-CDCBC676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646-1CF5-480F-AF50-9AD1DB87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405-41B9-4B11-A854-BD9439B7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044-FB40-479C-BE74-5F4D596D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11B-30AC-42D4-8969-F49D47E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6E1-9D89-489E-91A0-7A503155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2DF5-9D3B-4FF4-9823-DC209399F1F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BF10-F2BE-4454-A905-28BE541D73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ple, Compound, Complex and Compound-Complex Sentences in Your 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ound-Complex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ound-complex sentence is a sentence that has at least two independent clauses and at least one dependent clau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ame subordinating conjunctions are used to introduce the 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ame coordinating conjunctions (FANBOYS) are used for joining the in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ample Compound-Complex Sentence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fter the two adversaries had spent years playing this “cat and mouse” ga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ere joined by their childre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the fu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continu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ven though it seems the two were bent on the other’s destruc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the cat and mou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ere rather fond of one anoth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neith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anted the other’s defe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This ga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as begun thousands of years ag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eeb00b"/>
                </a:solidFill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will continue far into the futu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 other cats and mice revel in hide-and-see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est Yourself – Simple, Compound, Complex, or Compound-Complex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. The teacher walked into the classroom, greeted the students, and took attendanc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.When he woke up, he realized that he had overslep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3. Juan played football, yet Jim went shopping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4. Although Mexico has a better team, they lost the tournament, and their more aggressive style did not pay off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5. The island was filled with many trails winding through the thick underbrush, a small lake, and dangerous wild animal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6. Naoki passed the test because he studied hard, but Stacy did not understand the materi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ce a writer knows the difference between the three sentence types (simple, compound, and complex), it is possible to write with sentence variety.  Sentence variety helps make your writing more interesting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ple Sente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imple sentence contains a subject and verb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expresses a single complete though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imple sentence is a single independent clau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e Simple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crept through the dark h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wary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watched from underneath an upturned cereal box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predatory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stopped and surveyed his surround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darted for the safety of the nearly invisible hole under the cabine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ound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ound sentence contains two in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junctions (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or, and, nor, but, o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yet, s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join these independent clauses. (Hint: The conjunctions spell FANBOYS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onjunction used can impact the meaning of the sente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e Compound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was unsuccessful in his attempt to catch 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was equally as unlucky in his attempt to get the chee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do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had watched all of thi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had refused to become involve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could wait until dar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could risk a daylight raid on the pantr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usually slept during the da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e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curiosi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held him at the corner of the kitch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lex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lex sentence is an independent clause joined by one or more 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ubordinating conjunction begins the dependent clau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pendent clause that begins a sentence must be followed by comm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pendent clause has a subject and a verb, but it does not make sense on its ow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bordinating Conj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ft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how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lthough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l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 as much  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 if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 order that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 long 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t least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enev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 much 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w that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erea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o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erev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s though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il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ecaus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o th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efor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ven if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ven though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oug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e Complex Sent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fter he gave it some though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mous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decided to wait until later for his tre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ca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fell asleep on the warm kitchen floo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cause he was deprived of sleep the night befor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en the mouse heard the soft snoring of his sleeping nemesi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scurried to the pantry and grabbed enough food for a wee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b00b"/>
                </a:solidFill>
                <a:latin typeface="Times New Roman"/>
              </a:rPr>
              <a:t>The dedicated, feline sleu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keeps his nightly vigi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n though the foresighted mouse will not be venturing out this wee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46:56Z</dcterms:created>
  <dc:creator>S4</dc:creator>
  <dc:description/>
  <dc:language>en-US</dc:language>
  <cp:lastModifiedBy>nbdoe</cp:lastModifiedBy>
  <dcterms:modified xsi:type="dcterms:W3CDTF">2009-03-12T12:37:31Z</dcterms:modified>
  <cp:revision>6</cp:revision>
  <dc:subject/>
  <dc:title>Simple, Compound, and Complex Sentences in Your Writing</dc:title>
</cp:coreProperties>
</file>